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1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BCD4-BEFA-4075-9D93-5E347B413E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084D-99EA-404C-B72C-4C3D56DDCD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A9EC-4208-45C9-8DA1-FAA880244D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7298-4301-4304-9D29-A2512858A8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73E0-922D-410D-971A-84E037B5C9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DAA7-EF94-4FCB-81CA-520EDB688E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6492-3214-4F25-89F8-7894A382A3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20DF-BBED-40D5-9BB2-8DAAC0E71C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47DC-39C5-4675-B4DB-81A9613DE3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FFB8-5D28-4EAC-8CD1-94545F491C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2A5B-6EB8-4848-9AA1-D60AD67E00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2F12-A38C-4B22-8B09-185C88B165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B0AB-AD70-4F87-B3CE-2C566CAB60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DF2D-B13C-4A77-A5E4-39EE3677A3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F9B0-44FD-4C9D-B51A-C1499532F1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1093-ED9E-4CDC-BBB5-8FB7BB00FA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3948-8BD6-4CF3-912B-112B5DCE71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E8AB-4DAD-4DDE-B10D-F5C29BF4DC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C23B-ECFA-4687-9662-AEECBF29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51EF-3DBF-4919-8E9F-39370A06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5DDA-464D-41E0-BDA9-9AE231E40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3E9D-A4F3-4A10-B4F7-A4B4FE0D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EE93-B365-4FCE-9969-3B726608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E214-3BB1-45EF-9017-0865096B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A4EB-8F92-44C0-BD4B-71F5E0A5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DED0-4747-4FEF-953B-C3CF64C7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9C10-4140-4622-9C4E-D062B420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FFC0-6F9B-4EF5-8387-458DB0E7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69ED-958F-4387-B572-64D5F944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EE79-C351-4F1B-8866-8ED22FFE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ADFD-093F-4653-A3B7-789D12BED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bp0.blogger.com/_UIXOn06Pz70/SGwH-5l38NI/AAAAAAAADus/-1Z4xbxX7-M/s800/Strawberry+Cheesecake+Ice+Cream+500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071720" y="1214280"/>
            <a:ext cx="338436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hung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re thir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are c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is afr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are in a hurr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4716360" y="765000"/>
            <a:ext cx="3384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go ha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mos 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en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fr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e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mie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enes pr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785880" y="428760"/>
            <a:ext cx="8072280" cy="5205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your books to revise the verb “tener” to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042920" y="4869000"/>
            <a:ext cx="7632720" cy="10688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cias, para beber quiero una botella de vino blanco, por favor- con dos va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protero"/>
          <p:cNvPicPr/>
          <p:nvPr/>
        </p:nvPicPr>
        <p:blipFill>
          <a:blip r:embed="rId1"/>
          <a:stretch/>
        </p:blipFill>
        <p:spPr>
          <a:xfrm>
            <a:off x="3097080" y="476280"/>
            <a:ext cx="30798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042920" y="4869000"/>
            <a:ext cx="7632720" cy="10688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ra entrada, quiero el coctél de gambas, por fav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prawncock2web"/>
          <p:cNvPicPr/>
          <p:nvPr/>
        </p:nvPicPr>
        <p:blipFill>
          <a:blip r:embed="rId1"/>
          <a:stretch/>
        </p:blipFill>
        <p:spPr>
          <a:xfrm>
            <a:off x="2825640" y="692280"/>
            <a:ext cx="3506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684360" y="4869000"/>
            <a:ext cx="7991280" cy="10688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ra plato principal quiero el bistec en ajo, por fav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steak"/>
          <p:cNvPicPr/>
          <p:nvPr/>
        </p:nvPicPr>
        <p:blipFill>
          <a:blip r:embed="rId1"/>
          <a:stretch/>
        </p:blipFill>
        <p:spPr>
          <a:xfrm>
            <a:off x="3059280" y="692280"/>
            <a:ext cx="36385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684360" y="4869000"/>
            <a:ext cx="7991280" cy="10688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 para postre, quiero el helado de fresa, por fav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Strawberry%2BCheesecake%2BIce%2BCream%2B5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1068480"/>
            <a:ext cx="439272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684360" y="4869000"/>
            <a:ext cx="7991280" cy="58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eno, ¿algo má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waiter_taking_order_hg_clr"/>
          <p:cNvPicPr/>
          <p:nvPr/>
        </p:nvPicPr>
        <p:blipFill>
          <a:blip r:embed="rId1"/>
          <a:stretch/>
        </p:blipFill>
        <p:spPr>
          <a:xfrm>
            <a:off x="3564000" y="1125360"/>
            <a:ext cx="20574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684360" y="4869000"/>
            <a:ext cx="7991280" cy="58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, nada más, grac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dave_shaking_head_no_hg_clr[1]"/>
          <p:cNvPicPr/>
          <p:nvPr/>
        </p:nvPicPr>
        <p:blipFill>
          <a:blip r:embed="rId1"/>
          <a:stretch/>
        </p:blipFill>
        <p:spPr>
          <a:xfrm>
            <a:off x="3132000" y="1052640"/>
            <a:ext cx="3333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684360" y="4869000"/>
            <a:ext cx="7991280" cy="58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 cuenta, por fav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restaurant-bill-istock-de"/>
          <p:cNvPicPr/>
          <p:nvPr/>
        </p:nvPicPr>
        <p:blipFill>
          <a:blip r:embed="rId1"/>
          <a:stretch/>
        </p:blipFill>
        <p:spPr>
          <a:xfrm>
            <a:off x="2916360" y="765000"/>
            <a:ext cx="363672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684360" y="4653000"/>
            <a:ext cx="7991280" cy="58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uiero pagar con tarjeta de créd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84360" y="5445000"/>
            <a:ext cx="7991280" cy="58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uiero pagar con efe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credit-card-visa"/>
          <p:cNvPicPr/>
          <p:nvPr/>
        </p:nvPicPr>
        <p:blipFill>
          <a:blip r:embed="rId1"/>
          <a:stretch/>
        </p:blipFill>
        <p:spPr>
          <a:xfrm>
            <a:off x="755640" y="1557360"/>
            <a:ext cx="3097080" cy="2322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cash-wad"/>
          <p:cNvPicPr/>
          <p:nvPr/>
        </p:nvPicPr>
        <p:blipFill>
          <a:blip r:embed="rId2"/>
          <a:stretch/>
        </p:blipFill>
        <p:spPr>
          <a:xfrm>
            <a:off x="4716360" y="112536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250920" y="1557360"/>
            <a:ext cx="84978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1) To revise using tener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to learn phrases for in a restaura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learn how to complai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4) To begin a projec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042920" y="4869000"/>
            <a:ext cx="6264360" cy="10688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isiera (reservar) una mesa, por fav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Restaurant%20Table"/>
          <p:cNvPicPr/>
          <p:nvPr/>
        </p:nvPicPr>
        <p:blipFill>
          <a:blip r:embed="rId1"/>
          <a:stretch/>
        </p:blipFill>
        <p:spPr>
          <a:xfrm>
            <a:off x="2124000" y="476280"/>
            <a:ext cx="487692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042920" y="4869000"/>
            <a:ext cx="6264360" cy="58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 el nombre de Tor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403280" y="1844640"/>
            <a:ext cx="6769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"/>
              </a:rPr>
              <a:t>TORRE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042920" y="4869000"/>
            <a:ext cx="6264360" cy="58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¿Para cuántas person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684360" y="1844640"/>
            <a:ext cx="7632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Arial"/>
                <a:ea typeface="Arial"/>
              </a:rPr>
              <a:t>¿1, 2, </a:t>
            </a:r>
            <a:r>
              <a:rPr b="0" lang="en-GB" sz="10000" spc="-1" strike="noStrike">
                <a:solidFill>
                  <a:srgbClr val="000000"/>
                </a:solidFill>
                <a:latin typeface="Arial"/>
              </a:rPr>
              <a:t>4, 10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042920" y="4869000"/>
            <a:ext cx="6264360" cy="58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ra dos pers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684360" y="1844640"/>
            <a:ext cx="7632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042920" y="4869000"/>
            <a:ext cx="7632720" cy="58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¿En la terraza o cerca de la venta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4572000" y="609480"/>
            <a:ext cx="2773440" cy="2644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bd04877_"/>
          <p:cNvPicPr/>
          <p:nvPr/>
        </p:nvPicPr>
        <p:blipFill>
          <a:blip r:embed="rId2"/>
          <a:stretch/>
        </p:blipFill>
        <p:spPr>
          <a:xfrm>
            <a:off x="826920" y="1989000"/>
            <a:ext cx="28195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042920" y="4869000"/>
            <a:ext cx="7632720" cy="58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erca de la ventana, por fav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2916360" y="692280"/>
            <a:ext cx="370980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042920" y="4869000"/>
            <a:ext cx="7632720" cy="58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eno…la carta, señ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picc04"/>
          <p:cNvPicPr/>
          <p:nvPr/>
        </p:nvPicPr>
        <p:blipFill>
          <a:blip r:embed="rId1"/>
          <a:stretch/>
        </p:blipFill>
        <p:spPr>
          <a:xfrm>
            <a:off x="2627280" y="476280"/>
            <a:ext cx="404820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9:08:59Z</dcterms:created>
  <dc:creator>Owner1</dc:creator>
  <dc:description/>
  <dc:language>en-US</dc:language>
  <cp:lastModifiedBy>Chris</cp:lastModifiedBy>
  <dcterms:modified xsi:type="dcterms:W3CDTF">2009-03-11T14:25:05Z</dcterms:modified>
  <cp:revision>6</cp:revision>
  <dc:subject/>
  <dc:title>Slide 1</dc:title>
</cp:coreProperties>
</file>